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794320" y="8643960"/>
            <a:ext cx="1271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DC372BDA-EC9C-4E26-8FA1-9F49D120205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6400" y="685800"/>
            <a:ext cx="45226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specially useful to show aggregate data from a few classes in especially the early days in the course as you may have fewer data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can look at this chart and advise students not to over-engineer for example if such trend is appa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t may seem obvious, the instructor should also note that this sampling is from the 8-program version of the PSP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 6, this chart depicts data from close to 40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CED3260A-34E5-4F68-978A-0374C3ECF52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11D9A3F1-96F0-4733-8612-99640CD85B0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0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ing Accura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balanced estimates (about as many over as unde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estimates are made with no historical data or defined estimating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errors of plus or minus 20 to 40% are norm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osite is generally quite accurate in spite of individual variations (which is why teams can produce accurate estimate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1552" t="21159" r="1654" b="12174"/>
          <a:stretch/>
        </p:blipFill>
        <p:spPr>
          <a:xfrm>
            <a:off x="558720" y="952560"/>
            <a:ext cx="8155080" cy="5430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678040" y="1405080"/>
            <a:ext cx="521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een line is th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lass composi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(sum act time – sum est time)/sum est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9040" y="912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Time R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Plant the idea that time must be spent upfront for doing a proper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 initi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emphasis is placed on design with each additional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ourse seeing up to 4 times more time spent in design is comm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355680" y="1100160"/>
            <a:ext cx="8485200" cy="52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981000" y="1660680"/>
            <a:ext cx="485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design templates and design verification techniques are introduced, more time being spent in design is observed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7720" y="882360"/>
            <a:ext cx="7983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centage of Time Spent in Comp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28520" y="20761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compil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ly indicator of process quality (or a slow compile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that compilers don’t catch every defect;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~ 9% of C++ syntax defects slip through the compil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rcRect l="1415" t="20965" r="1759" b="12190"/>
          <a:stretch/>
        </p:blipFill>
        <p:spPr>
          <a:xfrm>
            <a:off x="558720" y="952560"/>
            <a:ext cx="8155080" cy="5443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295800" y="1398600"/>
            <a:ext cx="485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lue line indicates data for those students who do not use a compil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much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e end of the course, the max data point is lower than the beginning avera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centage of Time Spent in Te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te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ly indicator of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ake time to find and fix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ion phase by removal time: what kinds of errors are most costly to rem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rror type by removal time: what type of errors are most costly to rem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44680" y="932040"/>
            <a:ext cx="8169120" cy="54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3121200" y="1398600"/>
            <a:ext cx="485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is usually between 25 to 35 percent at the star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is usually between 10 to 20 percent by the e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R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quality of process and quality of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ither extreme is good or b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aus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-engineering a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programming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rcRect l="1345" t="20965" r="1654" b="12085"/>
          <a:stretch/>
        </p:blipFill>
        <p:spPr>
          <a:xfrm>
            <a:off x="558720" y="952560"/>
            <a:ext cx="8155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Accura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balanced estimates (about as many over as un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 estimates are made with no historical data or defined estimat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errors of plus or minus 20 to 40 % are norma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osite is generally quite accurate, in spite of individual varia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s should focus on personal improvement and not on comparison to oth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uracy may start improving after the introduction of PROB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1482" t="21070" r="1759" b="12085"/>
          <a:stretch/>
        </p:blipFill>
        <p:spPr>
          <a:xfrm>
            <a:off x="558720" y="952560"/>
            <a:ext cx="8155080" cy="5446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2786040" y="1414440"/>
            <a:ext cx="521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een line is th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lass composi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(sum act size – sum est size)/sum est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0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4960" y="890280"/>
            <a:ext cx="8045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577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presenting class data when you have program 1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composite data if you have several data points, otherwise  you may want to use your personal data as an examp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the following charts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gnments per progra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program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ment tim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estimating accurac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desig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compil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test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rang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program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estimating accurac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ments per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understand class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ee how many data points there are at each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only a couple of students finished the latest assignment, don’t share their data as it may reveal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quality over schedule, i.e. do it right the firs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1552" t="21034" r="1775" b="12122"/>
          <a:stretch/>
        </p:blipFill>
        <p:spPr>
          <a:xfrm>
            <a:off x="588960" y="1041480"/>
            <a:ext cx="8177040" cy="5467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5722920" y="1562040"/>
            <a:ext cx="285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chart depicts aggregate data from a few cla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gives a good sampling as to how timely the class is submitting assignments as a who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tual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quality of process and quality of data (tren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ither extreme is good or b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aus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-engineering a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programming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rcRect l="1431" t="21018" r="1669" b="12105"/>
          <a:stretch/>
        </p:blipFill>
        <p:spPr>
          <a:xfrm>
            <a:off x="558720" y="952560"/>
            <a:ext cx="8155080" cy="5441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43080" y="1450800"/>
            <a:ext cx="485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mplexity and possible over-engineering of the LOC counter is apparent in Program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ile it takes about 4 hours to complete an assignment during the first week, the second week can come close to doubling that amou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2Z</dcterms:modified>
  <cp:revision>211</cp:revision>
  <dc:subject/>
  <dc:title>No Slide Title</dc:title>
</cp:coreProperties>
</file>